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CE70-7BEF-4356-A8C0-C45658B94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B025-3BCC-42D4-A0BB-E9E54855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DD87-A826-429A-BC0A-9B59461E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DA0E-2281-4451-B649-91D4A347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A335-B215-4097-8CEC-06B1B396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010-1272-47F2-B013-D8C33B06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430-BA00-4FED-AFE2-1C6E9D02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7E6-73F6-4A9D-A82F-6AEDD051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9C1-086D-41F6-BCC3-B4A0D1A7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014-15E9-4E09-8096-D459B0AC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F1F3-7551-4122-B136-C4C8EEF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15D2-A6D1-4C91-8B02-67B45EB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B22-5580-49E3-8698-27CD034C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9EA2-5C13-4277-96C3-EB457172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7E61-2FFD-4440-BCB6-7EF817C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ADAC-8BCE-49BD-BB84-ACA6075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D68-A474-4E36-AFF5-BC8EC53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9F51-AF81-4AAB-999F-5CDA9F4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2396-3024-41EF-8484-F6FD01B4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FF04-E006-4C6A-BBAC-F45F698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A52-C806-4836-9D83-9CB2F0E9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944-AF49-429D-A5A4-F1972F7B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ABD0-1BA6-46B6-A38B-497CD4AC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F786-CF22-4630-8FD8-2B9B0AC7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53BF-DE17-48B8-ACBF-2D3A483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6E77-4842-47B7-85B4-F562269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4EF2-07B9-4183-B120-46D02862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56B-A5A6-44AD-BF97-07EF3B13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DA9A-D6C3-40B6-82FD-D386CE4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5886-7BC8-4C27-815F-DB01AF1E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EC12-DB04-40B3-9E58-44B7389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65AD-F34C-48E1-B94F-59CCC31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69B5-786E-4DDC-A0DC-B2F57AE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A08F-37C9-472A-BFAF-C99E267F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5421-7FD2-434B-9BD7-866222A4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99E4-F97B-4B36-9DE4-5D286994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AE8B-8E11-4239-BC5C-955756E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67EF-6098-432D-808E-992115A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7E8-1074-4F01-978F-98BB484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E4CE-E552-4D6D-B28D-062E01D9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BBDB-78D2-44D9-BA61-CDBE233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FE38-A501-482D-957B-5DB35DEE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2749-1403-41EA-BE78-FD068BB4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49217-08B9-4F1B-9BA8-201A2DE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D3E1-20CC-4EF4-A46D-82FD379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8B46-12B6-4230-9A52-8E7E714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06AD-15D6-47F2-9EDD-4F023D14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5FDA-8625-4AF4-82F9-53D6BAEA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3E34-D60E-4034-BE83-7F480C8D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D36-2F55-4B4E-BEB9-780B5C02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2A21-9BA3-4E06-A7E4-E1F3E6C2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1D5E-E4B1-455D-90F6-936BF0EA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344E-6300-4130-A5AE-61547008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FBE2-D425-4B3C-A8E5-DD35A37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F5C8-BC48-481C-9515-801B0A23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1BEF-EA91-4756-8F60-076FAF2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A8CF-CCA6-42F8-BC3D-B5EA688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C1170-AC39-42A5-A296-4B7D560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D5012-D79B-4E1E-9BBA-495D415D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E436-96B2-4969-A3B6-596F3DBC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66C-622D-4144-96A9-AEBAD92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BB69-30B5-4243-88E0-5C9DC703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4990-47EC-4F37-9332-43AC216C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7756-4D50-4BA5-9C67-7A19EA05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2A60-7C61-47E1-A5C2-784D7B4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9F83-BC48-4650-891B-1DBF7BC5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6843-F8F1-45DF-9F40-725D5AB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76F7-C87D-4EF0-8C07-689BA1E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C96B-21EE-419E-885A-5F5962B5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3E51-E37E-4B20-85C9-FBBFEA9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EFA6E-63A0-4D5F-A974-85DA1DC2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351-3374-48C9-BE52-3365EE8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57B9-B22F-4711-A858-3429DE9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745D-94F0-4F83-BD46-8D018FA3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7E2D-6554-475A-AF23-1DA805B0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69365-7D58-4D36-8B67-CDBCB108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AA072-244D-47B2-9BA9-603B6E9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D92B-3260-4AA4-9ECA-20E3752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BE24F-14DC-44F8-8BC8-6D58CA4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66B90-0B15-4699-9F65-40938E4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92D9C-0CAD-4022-A362-72663207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B886B-1E2A-446E-BFEA-DCFFAEA6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23B-F5A1-400E-BD2E-D59CC04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4940-6AA4-4050-A42B-8C45FC3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8806-2BF5-4BB4-8950-06501C20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7B0A-2B84-4367-9AB2-CF0D5B2B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C65B-1E27-48E0-9DDB-E9A5E859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6444-2C3D-4579-A384-A740AF14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B21-2F65-4CDC-918E-0FEFBAF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FAE8-77CC-495E-A94C-A5A363D5649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2" name="Picture 7" descr="001268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9D7C-AC12-4A1E-9BA7-200E25B2328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F9A-628A-433F-A288-932FBD2861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615C-0C6F-4769-A79A-C8DE3193F72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AF0E-DB85-4753-BF38-851CD34458E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D0B3-9898-4FEB-A4D2-E72E49DDFE5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9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3B8E-CEC3-47E2-A6AA-8C80624E143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47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8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1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52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85800" y="685800"/>
            <a:ext cx="82296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另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有以下用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用来表示过去的能力、可能性或许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 could read al the age of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岁时就能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go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可以和他一起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用来表示推测或条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f we could help, we w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我们能帮上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会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685800" y="685800"/>
            <a:ext cx="83059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情态动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必须和其它动同一 起构成谓语，没有人称和数的变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劝告或建议，意为“应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a very bad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lie down, have a res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 mor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得了重感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应该躺下休息，多喝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533520" y="838080"/>
            <a:ext cx="83818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情态动词，可以表谦逊、客气、委婉之意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should say that it would be better to try it again.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倒是认为最好再试一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are mistaken, I should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据我看，你搞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should expect their basketball team to win the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他倒是希望他们的篮球队赢得这场比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609480" y="990720"/>
            <a:ext cx="822960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还可以表示一种义务或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，意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应该”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finish your homework before you play games on th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应该先完成你的家庭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再玩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80880" y="1938240"/>
            <a:ext cx="8610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A: What's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My sister borrows my clothes withou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sking. What should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ell, you could tell her that this mak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angry ________ she'll ask you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A: I don’t have any friends at my new school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__________you don’t have any now, you wil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on make 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458280" y="685800"/>
            <a:ext cx="772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a. Fill in the blanks with although, 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that or unt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047760" y="388620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218960" y="533412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lth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04920" y="762120"/>
            <a:ext cx="853416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A: I'm worried about my school grad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's your ad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shouldn't wait _______the last minu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study for a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Mike is my best friend, but he always copi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y homework. What should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__________ he's your best friend, you shou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ill tell him that copying others' homewo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344480" y="20574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066320" y="449568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lth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304920" y="2514600"/>
            <a:ext cx="80769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’m very s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My sister and I fight all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380880" y="3049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b. Write one piece of advice for each problem. Then compare your advice with your partner’s and decide whether the advice is good or b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824120" y="3124080"/>
            <a:ext cx="650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make more frien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mmunicate with them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1899360" y="5029200"/>
            <a:ext cx="7180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communicate with her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hold different opi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09480" y="533520"/>
            <a:ext cx="80773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My sister spends all evening on the phone. 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My cousin borrows my things without returning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My parents won’t let me have a p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204640" y="1143000"/>
            <a:ext cx="6096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advise her to help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ousework or go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2051640" y="3429000"/>
            <a:ext cx="679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make him know it’s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 d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128320" y="5181480"/>
            <a:ext cx="6389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promise them tha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ill never let it affect your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9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686800" cy="28195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"/>
          <p:cNvSpPr/>
          <p:nvPr/>
        </p:nvSpPr>
        <p:spPr>
          <a:xfrm>
            <a:off x="380880" y="8380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Choose one of the problems and ask your classmates for advice. Decide which classmate has the best ad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38080" y="36576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left your homework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Your best friend is more popular than you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You are afraid of speaking in front of peopl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宋体"/>
              </a:rPr>
              <a:t>Your best friend does not trust you anymor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r parents alway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354840" y="2895480"/>
            <a:ext cx="2377080" cy="6426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Proble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62120" y="762120"/>
            <a:ext cx="7848360" cy="2628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My best friend is more popular tha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want to be like him. What should I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could try to be friend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: You should just be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85800" y="3657600"/>
            <a:ext cx="7696080" cy="32619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I’m afraid of speaking in front of peopl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I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should take it easy. Just b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 and calm when i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121932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Why don’ t you talk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your par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6"/>
          <p:cNvSpPr txBox="1"/>
          <p:nvPr/>
        </p:nvSpPr>
        <p:spPr>
          <a:xfrm>
            <a:off x="1752480" y="43434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ction A Grammar Foc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457200" y="1295280"/>
            <a:ext cx="80773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at should I ______ (get) my mom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r birth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y don’t you  ______ (get) her a scar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y not ______ (get) her a scar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How/What about ________ (get) her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ar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190760" y="41911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88620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819520" y="342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4038480" y="2743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380880" y="5335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Fill in the bl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304920" y="685800"/>
            <a:ext cx="84582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. How about __________calend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bu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to bu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I believe that singing English songs help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 ________my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impro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improv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im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The box is______ heavy ___I can’t  carry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too, to           B. so, that      C. enough,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354120" y="144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8302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2973600" y="4800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754200" y="914400"/>
            <a:ext cx="7921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Maybe you should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call in her  B. call up her  C. call h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Brian doesn’t lik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reading      B. read      C.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503064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5030640" y="2286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685800" y="2362320"/>
            <a:ext cx="795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you do when you have a f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your best friend? Ask someone to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514600" y="9144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Home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3"/>
          <p:cNvSpPr/>
          <p:nvPr/>
        </p:nvSpPr>
        <p:spPr>
          <a:xfrm>
            <a:off x="914400" y="1066680"/>
            <a:ext cx="754380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As a child, the best gift for your parents is</a:t>
            </a:r>
            <a:r>
              <a:rPr b="1" lang="en-US" sz="4000" spc="-1" strike="noStrike">
                <a:solidFill>
                  <a:srgbClr val="4584d3"/>
                </a:solidFill>
                <a:latin typeface="Times New Roman"/>
                <a:ea typeface="方正姚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lov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As a student, the best gift for your parents is</a:t>
            </a:r>
            <a:r>
              <a:rPr b="1" lang="en-US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219320" y="3276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4346640" y="3429000"/>
            <a:ext cx="33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studying ha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035011027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05520" y="4495680"/>
            <a:ext cx="3503520" cy="21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228600" y="914400"/>
          <a:ext cx="8610480" cy="31082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61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ou look tired. What’s the matt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 studied until midnight last night so I didn’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get enough sleep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5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should I d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y don’t you forget about it? Although she’s wrong, it’s not big dea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356" name="Oval 10"/>
          <p:cNvSpPr/>
          <p:nvPr/>
        </p:nvSpPr>
        <p:spPr>
          <a:xfrm>
            <a:off x="2819520" y="0"/>
            <a:ext cx="3454200" cy="8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Grammar Foc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8600" y="4038480"/>
          <a:ext cx="8610480" cy="26352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5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should he d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e should talk to his friend so that he can say he’s sorry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12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ybe you could go to his hous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 guess I could, but I don’t want to surprise hi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47640" y="1916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表达征求意见的用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066680" y="2133720"/>
            <a:ext cx="69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/How abou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名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动名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914400" y="31240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don’t you…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定性特殊疑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828800" y="41911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n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动词原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2133720" y="7621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Gramm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600200" y="52578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30492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Why don’t you do sth.?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这是给别人提建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建议某人做什么事情的句型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.g. Why don’t we come more often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咱们为什么不经常来这里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.g. Why don’t you buy a book for your father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给你爸爸买本书怎么样？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这个句子还可以写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Why not do…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.g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Why not get her a camera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为什么不给她买个相机呢？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这个句型还有发出礼貌地邀请的用法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Why don’t you have a drink of tea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喝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Why not have a drink of t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304920" y="6094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2.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隶书"/>
              </a:rPr>
              <a:t>How/What about…?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怎么样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好吗？”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句型是询问听话这一方对某事物的看法或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意见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abou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是个介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,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隶书"/>
              </a:rPr>
              <a:t>它后面要接名词或者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隶书"/>
              </a:rPr>
              <a:t>doing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e.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ow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his playing football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足球踢得怎么样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swimming with us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和我们一起游泳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her English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她的英语怎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533520" y="762120"/>
            <a:ext cx="838188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都可以用来表示建议或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告，前者比后者在语气上更加婉转、客气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可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应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;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应当”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— I need some money to pay for the summer c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/ could borrow some money from you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需要些钱来支付（参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夏令营的费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应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向你的哥哥借一些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762120" y="685800"/>
            <a:ext cx="79246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). could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过去式，在比较委婉客气 地提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或陈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法时，一般多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回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时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,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 please tell us where we show our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es,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告诉我们在哪里检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，我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609480" y="685800"/>
            <a:ext cx="81536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...?”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句型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语气的婉转，而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时。在希望得到肯定答复时，以及在表示建议、请求和征求意见时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yt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 lend me your bike,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把你的自行车借给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 please say something about your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说说你的家庭情况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18:32Z</dcterms:modified>
  <cp:revision>19</cp:revision>
  <dc:subject/>
  <dc:title>PowerPoint 演示文稿</dc:title>
</cp:coreProperties>
</file>